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979-AE7F-4DDE-B968-6D10EA63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E4F-335B-4E8F-A9B1-D9F85268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CEE-84F3-4AB7-8466-8E5EC7E4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BD4-4562-4047-952C-33346FBC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B51D-3B43-4EE7-A2DF-BFDBC210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7C4D-E0CE-46F2-9856-118FF76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ADD9-B957-47F8-AF34-FF29488B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CDD1-A73B-49A6-A7DA-938443C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8516-B901-47DB-BAB9-B4F03256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7B42-6CDB-4E14-AA09-290F569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EF94-3839-41F4-849C-EC332C5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A5C-039E-4B59-9C0C-8B5E18D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222C-101A-4DCB-9634-C6D85E8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A60D-67C4-43D6-A834-632D2C1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CDF1-A6F1-4FA3-9EB7-9C40A4A0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7D8F-FC5A-4E5B-AABB-9DD3AA96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EB34-DAE3-4CBD-BA0D-CC9B0633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8CE-9598-4AA1-A85D-F53FE3D4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99D-E78D-46D4-9E44-375A19B7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12A-2549-4A70-BF86-26C43A77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905-AE18-4D1F-8CF7-D00ACFDE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64B-FDD9-4480-8F2B-6AF829A6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8EE-7876-4BE4-8C70-B1EFD28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290-E7DB-4C95-9E99-4C852AC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2A7-6E06-40F0-841E-B3AF17B91BCF}" type="slidenum">
              <a:rPr b="0" lang="ro-RO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6BB9-0D79-491F-A8A0-A6C0BD936B2D}" type="slidenum">
              <a:rPr b="0" lang="ro-RO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.C. Calculatorul SR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6198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Organigrama societăț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8360" y="1628640"/>
            <a:ext cx="8208360" cy="4462920"/>
            <a:chOff x="468360" y="1628640"/>
            <a:chExt cx="8208360" cy="4462920"/>
          </a:xfrm>
        </p:grpSpPr>
        <p:cxnSp>
          <p:nvCxnSpPr>
            <p:cNvPr id="160" name="_s3085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5562360" y="242280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3" name="_s3084"/>
            <p:cNvCxnSpPr>
              <a:stCxn id="164" idx="0"/>
              <a:endCxn id="162" idx="1"/>
            </p:cNvCxnSpPr>
            <p:nvPr/>
          </p:nvCxnSpPr>
          <p:spPr>
            <a:xfrm flipV="1">
              <a:off x="4572720" y="3413160"/>
              <a:ext cx="3600" cy="8931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5" name="_s3083"/>
            <p:cNvCxnSpPr>
              <a:stCxn id="166" idx="0"/>
              <a:endCxn id="162" idx="0"/>
            </p:cNvCxnSpPr>
            <p:nvPr/>
          </p:nvCxnSpPr>
          <p:spPr>
            <a:xfrm flipH="1" flipV="1" rot="5400000">
              <a:off x="2689560" y="242316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2" name="_s3079"/>
            <p:cNvSpPr/>
            <p:nvPr/>
          </p:nvSpPr>
          <p:spPr>
            <a:xfrm>
              <a:off x="3341160" y="1628640"/>
              <a:ext cx="2462400" cy="1785240"/>
            </a:xfrm>
            <a:prstGeom prst="bevel">
              <a:avLst>
                <a:gd name="adj" fmla="val 12500"/>
              </a:avLst>
            </a:prstGeom>
            <a:solidFill>
              <a:srgbClr val="33cccc">
                <a:alpha val="50000"/>
              </a:srgbClr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anager unita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3080"/>
            <p:cNvSpPr/>
            <p:nvPr/>
          </p:nvSpPr>
          <p:spPr>
            <a:xfrm>
              <a:off x="468360" y="4306320"/>
              <a:ext cx="2462400" cy="1785240"/>
            </a:xfrm>
            <a:prstGeom prst="bevel">
              <a:avLst>
                <a:gd name="adj" fmla="val 12500"/>
              </a:avLst>
            </a:prstGeom>
            <a:solidFill>
              <a:srgbClr val="66ccff">
                <a:alpha val="50000"/>
              </a:srgbClr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irecto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3081"/>
            <p:cNvSpPr/>
            <p:nvPr/>
          </p:nvSpPr>
          <p:spPr>
            <a:xfrm>
              <a:off x="3341160" y="4306320"/>
              <a:ext cx="2462400" cy="1785240"/>
            </a:xfrm>
            <a:prstGeom prst="bevel">
              <a:avLst>
                <a:gd name="adj" fmla="val 12500"/>
              </a:avLst>
            </a:prstGeom>
            <a:solidFill>
              <a:srgbClr val="66ccff">
                <a:alpha val="50000"/>
              </a:srgbClr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irecto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surse uman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3082"/>
            <p:cNvSpPr/>
            <p:nvPr/>
          </p:nvSpPr>
          <p:spPr>
            <a:xfrm>
              <a:off x="6214320" y="4306320"/>
              <a:ext cx="2462400" cy="1785240"/>
            </a:xfrm>
            <a:prstGeom prst="bevel">
              <a:avLst>
                <a:gd name="adj" fmla="val 12500"/>
              </a:avLst>
            </a:prstGeom>
            <a:solidFill>
              <a:srgbClr val="66ccff">
                <a:alpha val="50000"/>
              </a:srgbClr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irecto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conomi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calculatoa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44720" y="2719440"/>
            <a:ext cx="2904840" cy="2233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38880" y="2065320"/>
            <a:ext cx="28098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ferta lunii April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Imprimante – 20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Monitoare – 15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Mouse – 10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Multifuncționale – 10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Scanner – 25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Adres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Loc. Cluj Napo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Str. Avram Iancu Nr. 2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cod. 4074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jud. Clu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Tel. 026412345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emai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etter"/>
          <p:cNvSpPr/>
          <p:nvPr/>
        </p:nvSpPr>
        <p:spPr>
          <a:xfrm>
            <a:off x="2771640" y="5157720"/>
            <a:ext cx="1800360" cy="792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9:41:46Z</dcterms:created>
  <dc:creator>AS</dc:creator>
  <dc:description/>
  <dc:language>en-US</dc:language>
  <cp:lastModifiedBy>AS</cp:lastModifiedBy>
  <dcterms:modified xsi:type="dcterms:W3CDTF">2010-01-06T21:52:32Z</dcterms:modified>
  <cp:revision>6</cp:revision>
  <dc:subject/>
  <dc:title>S.C. Calculatorul SRL</dc:title>
</cp:coreProperties>
</file>